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4DA-7F64-408E-B8F5-4D9AC70D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2BF-1C0B-4156-8BC7-A9E9149B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3DE-9022-40C4-AF07-E2D5918D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0056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3980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168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0056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3980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2B7-D022-4148-810C-56694EC5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E12E-5511-47FF-BE46-E90B5187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75D5-A9EA-4F34-AA78-75DF4483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DB1D-8A8D-4CF3-BED2-9EBF605D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2FCB-1FF8-4EAA-B66A-29524234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0A48-832E-4571-A31A-2FD50D35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0FC2-0A50-4FAB-93F7-9059A200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54C0-12B2-4889-8428-6A71CD5B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A71-5F78-4BCF-BFB1-4DE1630D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C5D5-D721-44F9-BBAE-86CBB883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8436-64F1-4632-857D-12FBEB44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FD75-22FF-43A7-83F9-CE1E9B3A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9EB0-1CA1-4807-9A94-C9AB33BC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0056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3980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168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0056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3980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2046-636F-493A-85B1-6D6D4A75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EA1-2CBB-44F4-95FF-BCBF7876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B32-4DF3-42E0-9923-0B1CD422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0F1-5250-4B1C-8C01-3A70C086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0C9-C396-4154-A54A-C3160E45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C0E-68BC-4B9B-9861-770129C4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529-9560-4010-8F22-EDDD2EAB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A19-33C4-4D87-8EC9-57313F43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59D8-3D8C-4EB0-979A-AF460C21D0D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0042-36E3-4BB2-8DFB-ED2C176073F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The Book of Job (1)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42640" y="49525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Quarter 5, Lesson 1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United Kingdom, Part 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ges 138-14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1:1-5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righteous man blessed by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rom the land of Uz, to the East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patriarch who offered sacrifi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e who feared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y rich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large family (ten children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very great household (servant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y frien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greatest of all the men of the E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1:6-1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tan slanders his charac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used Job of serving God only because God had blessed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tan asked God, “Does Job fear God for nothing?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stripped of his blessings, he would curse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1:13-2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accepted Satan’s challen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allowed Satan to strip him of all of his possessions and his childr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herds of oxen were stol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sheep (7,000) killed by a thunderstor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vast herds of camels were stol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10 children killed by a strong wi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did not sin nor curse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1:13-2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’s reactio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:21 (ESV)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 he said, "Naked I came from my mother's womb, and naked shall I return. The Lord gave, and the Lord has taken away; blessed be the name of the Lord."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did not sin nor curse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4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4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4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4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2:1-13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2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tan made another challen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his health is taken away, he will curse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mitten by the most painful disease known to the ancient world (boils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wife thought he should curse God and di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ven Job’s friends finally blamed him for his afflictions – said he was wick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did not sin nor curse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8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2:1-13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2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the next lesson, we will discus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rest of the sto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usations made by Job’s frien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w Job answer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a young man told Jo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d’s response to the occa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finally happened to Jo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8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Wisdom Literature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, Psalms, Proverbs, Ecclesiastes, and Song of Solomon often called – “poetry” but they are more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contain “Wisdom Literature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deal with man’s approach to life on earth in all its aspec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ir messages are found in groups of phrases and express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Purpos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8253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do men serve God?  Is it for gain, or is it because of devotion and commitmen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salms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Jewish hymnal – praises, prayers to express our sacred and holy though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Purpos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verbs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collection of principles and axioms containing the distilled wisdom of all the ages – principles of living righ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cclesiastes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is the meaning of “life under the sun”?  What really matters in lif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Purpos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ng of Solomon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love so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als with the feelings of affection, romance, and sexual attraction leading up to marria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im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st of the books were written by David and Solomon during the period of the United Kingd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ember Solomon’s wisdom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Read 1 Kings 4:29-3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im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83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Book of Job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triarchal period; God spoke directly and Job offered sacrifices; God’s serva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isdom literature; Solomon and Davi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riends; descendants of Abraha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ng life; Job lived 140 year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after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he was re-establish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mention of Israel or the la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bably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fter Abraham, before Solom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Scope of Our Study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obtain a general overview of the whole Bible as it pertains to God’s plan of redemp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 will discuss the “gist” of each book with some of their practical lessons for u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 will not go into a detailed study of each boo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Four Important Question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 men serve God only for the blessings He giv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suffering always a sign of God’s wrath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, is prosperity always a sign of God’s pleasur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 we have a right to question God about why He does the things He does, or why He allows the things He allow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2:16:26Z</dcterms:created>
  <dc:creator>Frank D Vines</dc:creator>
  <dc:description/>
  <dc:language>en-US</dc:language>
  <cp:lastModifiedBy>Frank D Vines</cp:lastModifiedBy>
  <dcterms:modified xsi:type="dcterms:W3CDTF">2005-06-01T04:37:54Z</dcterms:modified>
  <cp:revision>33</cp:revision>
  <dc:subject/>
  <dc:title>Job</dc:title>
</cp:coreProperties>
</file>